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EFB5-3974-4B9A-A87B-3DC1282086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176-AFD7-44E6-893D-950AD095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E38-9FF1-4EB2-82B6-CE940614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330F-1DE5-42ED-8796-94BF9E63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D72-D63A-496D-846C-42D08552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909-A929-4169-82BF-BE4489E9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CBF-C88C-4BB0-86D5-97D3C41D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736-7A31-4391-9DE1-30D4BE6D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0C69-18CA-4834-A806-506B857C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0360-F6BA-4315-B088-C4939051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FF0-5CFC-43A2-92AF-3E736558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9D38-6DF5-4F8A-A504-4C683DD6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C126-9EC0-420D-897A-F254C865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43B3-0A8F-4B20-9705-BFF581D12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4, the Carbo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557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nmetal carbon exists as an element in several f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’re familiar with two of them—diamond and graph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5"/>
          <p:cNvPicPr/>
          <p:nvPr/>
        </p:nvPicPr>
        <p:blipFill>
          <a:blip r:embed="rId1"/>
          <a:stretch/>
        </p:blipFill>
        <p:spPr>
          <a:xfrm>
            <a:off x="3909960" y="1981080"/>
            <a:ext cx="3944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90680"/>
            <a:ext cx="739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also is found in all living thing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21016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is followed by the metalloid silicon, an abundant element contained in san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3520" y="324468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d contains ground up particles of minerals such as quartz, which is composed of silicon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3520" y="4822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ass is an important product made from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3520" y="13716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icon and its Group 14 neighbor, germanium, are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2460600"/>
            <a:ext cx="5486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used in electronics as semicondu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508200"/>
            <a:ext cx="5105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micond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esn’t conduct electricity as well as metal, but does conduct electricity better than a nonmeta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im27 semiconductor"/>
          <p:cNvPicPr/>
          <p:nvPr/>
        </p:nvPicPr>
        <p:blipFill>
          <a:blip r:embed="rId1"/>
          <a:stretch/>
        </p:blipFill>
        <p:spPr>
          <a:xfrm>
            <a:off x="5715000" y="2057400"/>
            <a:ext cx="2965320" cy="3298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873000" y="3962520"/>
            <a:ext cx="4765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and lead are the two heaviest elements in Group 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3520" y="21430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is used to protect your torso during dental X ray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3520" y="307008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48736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is used in pewter, toothpaste, and the coating on steel cans used for f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7:32Z</dcterms:created>
  <dc:creator>CIC1</dc:creator>
  <dc:description/>
  <dc:language>en-US</dc:language>
  <cp:lastModifiedBy>RomaK</cp:lastModifiedBy>
  <dcterms:modified xsi:type="dcterms:W3CDTF">2015-09-02T05:50:50Z</dcterms:modified>
  <cp:revision>6</cp:revision>
  <dc:subject/>
  <dc:title>Group 14, the Carbon Group</dc:title>
</cp:coreProperties>
</file>